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395-DDD0-4EFF-8D50-DBA0D0DF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F86-F038-4541-99A6-5E13D23E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2FF-9797-4977-9D14-3E153B00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CB5-9422-4812-9D97-895829DE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79E-5BCB-4814-AAA6-A9C9680B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8EF-B2EA-402C-8232-4A04D820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10F-9BC5-4EA1-9BE4-B19E76C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9A0-30DE-4EAA-9BD4-0713BD30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DEC-EC1D-493B-BBDE-629A276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E45-76F5-4691-AD6B-7E91277A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162-31B7-40A2-B841-895B84B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5D6-093A-4DC9-BB60-47575463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7497-EC85-474E-A73B-FC0198453C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y forward on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existence tests for LA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ricsson, Qualco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0" y="1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GPP TSG-RAN WG4 Meeting #77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4-158280 Anaheim, CA, USA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vembe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is way forward contain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General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parameter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ime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 forward on general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ests should be conductive tests for LA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example of such test setup is given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schematic test setup"/>
          <p:cNvPicPr/>
          <p:nvPr/>
        </p:nvPicPr>
        <p:blipFill>
          <a:blip r:embed="rId1"/>
          <a:stretch/>
        </p:blipFill>
        <p:spPr>
          <a:xfrm>
            <a:off x="1332000" y="2924280"/>
            <a:ext cx="54529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cifying LBT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127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the following requirements in 36.1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B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LBT bandwidth will be 20MHz, as it is agreed so f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detection threshol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imum channel occupancy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measurement accuracy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he feasibility of the following test should be studied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 Station should be able to assess whether the medium is busy or idle within X microseconds and with at least Y% prob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83800" y="6319800"/>
            <a:ext cx="70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arameters which depend on RAN1 decisions can be revisite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pability to perform Energy detection, includes following tes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of energy detection thresholds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imum channel occupancy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bove tests will cover the parameters in previous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BT tests will ensure that LAA coexistence targets are met and hence fair coexistence with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4 will study the need  and complexity of introducing multi-node tests, which represent additional test compared to the essential LBT related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eeded, multi-node test can be initiated in performance part of the WI and may test coexistence wit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wireless systems using the spectrum, e.g. Wi-Fi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LAA operators operating in the spectr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pl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ing time plan can be follow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2421000"/>
          <a:ext cx="8209080" cy="2898720"/>
        </p:xfrm>
        <a:graphic>
          <a:graphicData uri="http://schemas.openxmlformats.org/drawingml/2006/table">
            <a:tbl>
              <a:tblPr/>
              <a:tblGrid>
                <a:gridCol w="2100240"/>
                <a:gridCol w="2863800"/>
                <a:gridCol w="32450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 part of WI (until December 20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part of WI (until June 20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T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 requirements are documented in 36.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 of actual test procedures to be defined and documented in 36.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-node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y of type of test and test procedure. Details of possible test procedures to be defined and docum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2:48:09Z</dcterms:created>
  <dc:creator>Liubo (Bo)</dc:creator>
  <dc:description/>
  <dc:language>en-US</dc:language>
  <cp:lastModifiedBy>Imadur Rahman</cp:lastModifiedBy>
  <dcterms:modified xsi:type="dcterms:W3CDTF">2015-11-20T19:50:30Z</dcterms:modified>
  <cp:revision>1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_ms_pID_72543">
    <vt:lpwstr>(3)GniobbBNRjZ0VK6WQo/j9+sIM1ORhom1BFaDt2RMKfo+D2URJ4upXEFx36fT4j+dif9JNsM0
JOPlYgI4mNsvPgVzAM3L9O/gcdxon2vDCUJJipeDapwpCyQVmuH9tOMX2J9Wf8/IYqvZtcLs
zYwx0AlvTXnP4kgQHw7jk9RzKwkep+dlt5AdOBeIyfSvVpcvjThwgJ7AVm9eCKYd7ZjBgQfl
ni+aI8W3x3w+1WDVvW</vt:lpwstr>
  </property>
  <property fmtid="{D5CDD505-2E9C-101B-9397-08002B2CF9AE}" pid="3" name="_new_ms_pID_725431">
    <vt:lpwstr>sRkoKR2Msp/7mlsK8RaGXhDu83mw+J5tLzyf8RVatNj/n/LJ4wUkLs
OjAFv+9U65pC+sYhfLeGHJj/KOWApCp0j2qzM2mnukEzvo2O9mW1KM0peOpjw8CsvCkIXBYN
yLz/9mOGrGh/EjH9VETJ5KTxHti6SZvQMS0RanDlcgh8afN+FvOgOnLLFEY57DXBB37CkvLg
el4H2g5OFRnO1JgQdCdoC7rXe5eATqIYWyxb</vt:lpwstr>
  </property>
  <property fmtid="{D5CDD505-2E9C-101B-9397-08002B2CF9AE}" pid="4" name="_new_ms_pID_725432">
    <vt:lpwstr>2Hpn+3n83aq05QX5zUwrqh3NjYqCwtLjpFjE
S9bROTOhADfyYceBfJ6lWVyfxMSIg6bgH/+kd1aHfGJpTpluOOXc5SFAPtE+2wPS1PzOTHQ6
t1n1rVfZO3TxLjwSQ+1RARTf73SOq8B60r7IVDeTzic=</vt:lpwstr>
  </property>
  <property fmtid="{D5CDD505-2E9C-101B-9397-08002B2CF9AE}" pid="5" name="sflag">
    <vt:lpwstr>1447703963</vt:lpwstr>
  </property>
</Properties>
</file>