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359320" y="8984880"/>
            <a:ext cx="9223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5939E1E-34CE-43B4-A630-BF27752EB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concern of membership loss taking effect before November force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 Limit document breaks out one paragraph from the original change to accommodate Bob Grow’s concern that it be voted separate (in case the entire fai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O’hara wr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additional comments on 7.2 have not been addressed.  This clause now reads that the EC might hold some "veto" power after approval of a PAR by IEEE-SA SB.  Delete "When determined appropriate by the EC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mmended changes from SA based on comments deferred to later time on last ball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chair and VC - What about everyone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ll officers have to belong to S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G Char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G/TAG rather than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banding a WG/TAG that never produced a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00D-5308-4908-A40B-81480540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F074-66BC-478D-91FA-9AD1A572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5C0-C6D5-42FB-8949-09D9D32E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16F3-E57E-49A2-B5BE-7CBB3605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453-DA5E-4F17-BEE7-11950B14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B5C7-4E50-482A-A0CF-AAFA5FF4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C5B-5E3E-4635-A12F-8DF26F69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C31C-5817-4B5E-AD46-1C8EC2B1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809-E807-49C3-9ADD-2EE510FA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9859-2FF2-45C2-BC6A-4C882AFA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338D-226C-48BA-BB17-BF8B6092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77A-AD77-4F54-9704-F5950C30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2281-340A-407E-BDFC-279004BB8E08}" type="datetime5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9200" y="6474960"/>
            <a:ext cx="35812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Sherman, BAE Syste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7040" y="6476760"/>
            <a:ext cx="5284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87C14A8-A94F-4E32-8365-F6A656C4B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61480" y="396000"/>
            <a:ext cx="400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VC1_10072006_Closing_EC_Motions_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ons Intern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LMSC 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Vice Cha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nd supporting slides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1AA3-D376-4829-9787-97B69009CB9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90B9A-1F0F-4B19-A9FD-3B880AB5E6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 to Approve P&amp;P Re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86CD-756D-4EC1-8631-A58C8CAD6A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0B4E8-834F-408A-98D8-37E57B44F6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approve the P&amp;P revision titled “WG Plenary” as described in the file named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0-Editorial_2_-_LMSC_P&amp;P_Revision_Ballot_proposed_resolution_060628_r0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9240" y="487692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880" y="533412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880" y="58672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8880" y="4876920"/>
            <a:ext cx="45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 Matthew Sh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5200" y="5791320"/>
            <a:ext cx="30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: Stuart Ke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CEF1-2F8D-4076-9E85-B15880FA219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577BF-CE68-4D6E-BC4F-F8F79CC046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approve the P&amp;P revision titled “Document Numbers” as described in the file named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0-Document_Numbers_-_LMSC_P&amp;P_Revision_Ballot_060430_r0.p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9240" y="487692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880" y="533412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8880" y="58672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8880" y="4876920"/>
            <a:ext cx="45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 Matthew Sh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5200" y="5791320"/>
            <a:ext cx="30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: Stuart Ke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A06-FCE1-47EF-A63B-40CBDF58F7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A1050-706B-41A8-BD64-2E075AFEEE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 to Approve Balloting of P&amp;P Re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179-9386-48EA-A457-6A97299EF75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2FD4F-B12A-4924-A153-F49EF8E208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pprove for distribution and executive committee ballot the P&amp;P Revision titled “WG Voting Procedures” as described in the document title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-0-WG_Voting_Procedures-Proposed_P&amp;P_ballot_resolutions_r4_060720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9240" y="487692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880" y="533412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880" y="58672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8880" y="4876920"/>
            <a:ext cx="45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 Matthew Sh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5200" y="5791320"/>
            <a:ext cx="30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: Stuart Ke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D3E4-7721-473A-ABBB-553AA7E513A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1C313-FDDA-4062-ACF2-ABDE994D32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1:50:24Z</dcterms:created>
  <dc:creator>mjsherman</dc:creator>
  <dc:description/>
  <dc:language>en-US</dc:language>
  <cp:lastModifiedBy>Matthew Sherman</cp:lastModifiedBy>
  <cp:lastPrinted>1998-02-10T13:28:06Z</cp:lastPrinted>
  <dcterms:modified xsi:type="dcterms:W3CDTF">2006-07-21T02:35:12Z</dcterms:modified>
  <cp:revision>135</cp:revision>
  <dc:subject/>
  <dc:title>PowerPoint Presentation</dc:title>
</cp:coreProperties>
</file>