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1557396-DC90-4896-8187-1D077BC52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concern of membership loss taking effect before November force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 Limit document breaks out one paragraph from the original change to accommodate Bob Grow’s concern that it be voted separate (in case the entire fai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 wr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additional comments on 7.2 have not been addressed.  This clause now reads that the EC might hold some "veto" power after approval of a PAR by IEEE-SA SB.  Delete "When determined appropriate by the EC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changes from SA based on comments deferred to later time on last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hair and VC - What about everyone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ll officers have to belong to S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G Char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WG/TAG rather th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banding a WG/TAG that never produced a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A.  Announce teleconferences same a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726-4570-4035-92F0-11838F3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C34-DD55-43A1-9FC3-041240CC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138-EC90-4965-8B9E-D402E7CF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6B9-29E1-407C-917D-DD7E8D68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6B4-8B87-4CBA-8240-06C5F2E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878-B86D-4EDD-8225-C2AE587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898-8B54-4CFB-A1B6-0A5D756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58B-6CD0-4507-A904-06E0B4F2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A05-0055-4E35-ABCB-FD8B3079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256-06AB-4981-9FE2-7C27787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D9F-F5EC-4C68-9836-A8D5A8F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0CD-13DB-48D8-B7B9-B584B90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9C9-7988-4D39-9EA9-4B991DE5FAAD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7040" y="6476760"/>
            <a:ext cx="5284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2C9DB2-F8C6-4279-8E9E-705F2B89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61480" y="396000"/>
            <a:ext cx="400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VC1_10032006_Closing_EC_Motions_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s Intern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 LMSC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ice Chai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supporting slide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820-2318-4EAF-81E8-F73AB02551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E9C47-4495-4972-99EE-A5D446D8ED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47D-DA67-4662-B141-B4B2C37504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1333F-A3A8-452F-8C9A-76C82E4802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WG Plenary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WG_Plenary_-_LMSC_P&amp;P_Revision_Propose Resolution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64D-D15C-49FA-8230-2EB5072AFB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88039-0D67-41D9-ADDE-E8829B951D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re-ballot more ‘extensive’ changes due to confusion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eeking approval of text changes in original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known controversy with that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text as in January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97F-7C48-472C-B2E5-ECEBC33E87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9DBFC-45C1-4A91-8A0A-C290C6E5FE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approve the proposed P&amp;P revision titled “Editorial” as described in the document titled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0-Editorial_-_LMSC_P&amp;P_Revision_Ballot_060102_r0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98080" y="487692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97720" y="533412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7720" y="58672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1080" y="48769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3360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EF6-A390-4DCB-9769-6C795799EF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F8F9-453A-4F59-B981-05D861F5C1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to Approve Balloting of P&amp;P Re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64A-D130-49E4-83DA-C677F84F16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AC3B2-A16D-4B0A-B170-901B8E2FA2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Document Numbers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Document_Numbers_-_Proposed_LMSC_P&amp;P_Revision_Ballot_060305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4240" y="4724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66760" y="52578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1B7-AD78-47C7-A4D7-3FD1C7414D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7D6F1-B9D4-47F3-8E7F-CA1D8447F7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itorial re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motion is to formally ballot Matthew Sherman’s more ‘extensive’ changes submitted as comments on the original ballot titled ‘Editoria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additions based on recent comment re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188-EAA4-4762-AE68-0395454EB3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287C0-F04D-43A6-8E01-D0C9CE8DEF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ve for distribution and executive committee ballot the P&amp;P Revision titled “Editorial 2” as described in the document tit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0-Editorial_2_-_Proposed_LMSC_P&amp;P_Revision_Ballot_060310_r0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9400" y="48006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9040" y="52578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9040" y="571500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68920" y="52578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7913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A31-8CB0-43AD-ADE1-85F3802D19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82A78-AC17-4CB1-8628-D6693CC3FD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Version 2</cp:lastModifiedBy>
  <cp:lastPrinted>1998-02-10T13:28:06Z</cp:lastPrinted>
  <dcterms:modified xsi:type="dcterms:W3CDTF">2006-03-10T06:24:31Z</dcterms:modified>
  <cp:revision>132</cp:revision>
  <dc:subject/>
  <dc:title>PowerPoint Presentation</dc:title>
</cp:coreProperties>
</file>