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210960" y="6583320"/>
            <a:ext cx="457200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960161F2-F7EE-4057-B9D3-5804448B4332}"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FILENAMs.PPT/ DATE / NN</a:t>
            </a:r>
            <a:endParaRPr b="0" lang="en-US" sz="900" spc="-1" strike="noStrike">
              <a:solidFill>
                <a:srgbClr val="000000"/>
              </a:solidFill>
              <a:latin typeface="Rotis Sans Serif for Nokia"/>
            </a:endParaRPr>
          </a:p>
        </p:txBody>
      </p:sp>
      <p:sp>
        <p:nvSpPr>
          <p:cNvPr id="2"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802 Handoff ECSG</a:t>
            </a:r>
            <a:br>
              <a:rPr sz="3200"/>
            </a:br>
            <a:r>
              <a:rPr b="1" lang="en-US" sz="3200" spc="-1" strike="noStrike">
                <a:solidFill>
                  <a:srgbClr val="000000"/>
                </a:solidFill>
                <a:latin typeface="Rotis Sans Serif for Nokia"/>
              </a:rPr>
              <a:t>Comment Resolution</a:t>
            </a:r>
            <a:endParaRPr b="1" lang="en-US" sz="3200" spc="-1" strike="noStrike">
              <a:solidFill>
                <a:srgbClr val="000000"/>
              </a:solidFill>
              <a:latin typeface="Rotis Sans Serif for Nokia"/>
            </a:endParaRPr>
          </a:p>
        </p:txBody>
      </p:sp>
      <p:sp>
        <p:nvSpPr>
          <p:cNvPr id="40" name="PlaceHolder 2"/>
          <p:cNvSpPr>
            <a:spLocks noGrp="1"/>
          </p:cNvSpPr>
          <p:nvPr>
            <p:ph/>
          </p:nvPr>
        </p:nvSpPr>
        <p:spPr>
          <a:xfrm>
            <a:off x="422280" y="1523520"/>
            <a:ext cx="8299440" cy="48006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AR and 5 Criteria exposed to EC and WGs for review and approval</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from 802.1 and 802.16 by 5.00pm Tuesday.</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rmal comments from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nformal comments received during meeting with 802.1 and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ll comments, both formal and informal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1 Comment received from Howard Frazier during Monday EC meeting</a:t>
            </a:r>
            <a:endParaRPr b="0" lang="en-US" sz="24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6</a:t>
            </a:r>
            <a:endParaRPr b="1" lang="en-US" sz="3600" spc="-1" strike="noStrike">
              <a:solidFill>
                <a:srgbClr val="000000"/>
              </a:solidFill>
              <a:latin typeface="Rotis Sans Serif for Nokia"/>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acks Support for Media Specific Optimizat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 Media specific optimizations should be supported</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y making elements in the standard extensible, we enable media specific optimizations to be created.</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e are not precluding media specific optimizations from being included in this specification</a:t>
            </a:r>
            <a:endParaRPr b="0" lang="en-US" sz="2400" spc="-1" strike="noStrike">
              <a:solidFill>
                <a:srgbClr val="000000"/>
              </a:solidFill>
              <a:latin typeface="Rotis Sans Serif for Nokia"/>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304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Comment 7</a:t>
            </a:r>
            <a:endParaRPr b="1" lang="en-US" sz="3200" spc="-1" strike="noStrike">
              <a:solidFill>
                <a:srgbClr val="000000"/>
              </a:solidFill>
              <a:latin typeface="Rotis Sans Serif for Nokia"/>
            </a:endParaRPr>
          </a:p>
        </p:txBody>
      </p:sp>
      <p:sp>
        <p:nvSpPr>
          <p:cNvPr id="60" name="PlaceHolder 2"/>
          <p:cNvSpPr>
            <a:spLocks noGrp="1"/>
          </p:cNvSpPr>
          <p:nvPr>
            <p:ph/>
          </p:nvPr>
        </p:nvSpPr>
        <p:spPr>
          <a:xfrm>
            <a:off x="422280" y="685440"/>
            <a:ext cx="8299440" cy="5791320"/>
          </a:xfrm>
          <a:prstGeom prst="rect">
            <a:avLst/>
          </a:prstGeom>
          <a:noFill/>
          <a:ln w="0">
            <a:noFill/>
          </a:ln>
        </p:spPr>
        <p:txBody>
          <a:bodyPr lIns="90360" rIns="90360" tIns="44280" bIns="44280" anchor="t">
            <a:normAutofit fontScale="99000"/>
          </a:bodyPr>
          <a:p>
            <a:pPr marL="278280" indent="0" algn="ctr">
              <a:lnSpc>
                <a:spcPct val="7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uplication of work in the IETF</a:t>
            </a:r>
            <a:endParaRPr b="0" lang="en-US" sz="18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ponse</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Accept-Modify</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Scope needs to be 5 lines. Text will be added to 5 criteria.</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It is the intention to align activities with 802.11k and the IETF such that such overlap does not occur. Formal liasons may be used to achieve this.</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We do not provide services of authorization or authentication, so we cannot put that in the scope, however we do optimize selection of network attachment points. Other standards define these services (E.G. EAP and 802.1X)</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We expect that service flow definitions would be represented in the information base that is to be defined in the specification. It is this information base that is called out in the PAR.</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olution</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elete “</a:t>
            </a:r>
            <a:r>
              <a:rPr b="0" lang="en-US" sz="1400" spc="-1" strike="noStrike">
                <a:solidFill>
                  <a:srgbClr val="000000"/>
                </a:solidFill>
                <a:latin typeface="Rotis Sans Serif for Nokia"/>
              </a:rPr>
              <a:t>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Insert in 5 criteria </a:t>
            </a:r>
            <a:r>
              <a:rPr b="0" lang="en-US" sz="1400" spc="-1" strike="noStrike">
                <a:solidFill>
                  <a:srgbClr val="000000"/>
                </a:solidFill>
                <a:latin typeface="Rotis Sans Serif for Nokia"/>
              </a:rPr>
              <a:t>“</a:t>
            </a:r>
            <a:r>
              <a:rPr b="0" lang="en-US" sz="1600" spc="-1" strike="noStrike">
                <a:solidFill>
                  <a:srgbClr val="000000"/>
                </a:solidFill>
                <a:latin typeface="Rotis Sans Serif for Nokia"/>
              </a:rPr>
              <a:t>This standard will provide services both across an 802 link and to upper layers to</a:t>
            </a:r>
            <a:endParaRPr b="0" lang="en-US" sz="16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Facilitate the optimization of  detection and selection of networks</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source of extensible and semantically defined information to facilitate optimized handover decision making</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mechanism to access this information over an 802 link.</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triggers to upper layers</a:t>
            </a:r>
            <a:endParaRPr b="0" lang="en-US" sz="12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t>
            </a:r>
            <a:endParaRPr b="0" lang="en-US" sz="10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8</a:t>
            </a:r>
            <a:endParaRPr b="1" lang="en-US" sz="3600" spc="-1" strike="noStrike">
              <a:solidFill>
                <a:srgbClr val="000000"/>
              </a:solidFill>
              <a:latin typeface="Rotis Sans Serif for Nokia"/>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place Purpose with</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
            </a:r>
            <a:r>
              <a:rPr b="0" lang="en-US" sz="1800" spc="-1" strike="noStrike">
                <a:solidFill>
                  <a:srgbClr val="000000"/>
                </a:solidFill>
                <a:latin typeface="Rotis Sans Serif for Nokia"/>
              </a:rPr>
              <a:t>The purpose is to improve the user experience of mobile devices by facilitating handover between 802 networks whether or not they are of different media types, including both wired and wireless, where handover is not otherwise defined and to make it possible for mobile devices to perform seamless handover where the network environment supports it. These mechanisms may also be useable for handovers between 802 networks and non 802 networks. ”</a:t>
            </a:r>
            <a:endParaRPr b="0" lang="en-US" sz="1800" spc="-1" strike="noStrike">
              <a:solidFill>
                <a:srgbClr val="000000"/>
              </a:solidFill>
              <a:latin typeface="Rotis Sans Serif for Nokia"/>
            </a:endParaRPr>
          </a:p>
          <a:p>
            <a:pPr marL="281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a:t>
            </a:r>
            <a:endParaRPr b="1" lang="en-US" sz="3600" spc="-1" strike="noStrike">
              <a:solidFill>
                <a:srgbClr val="000000"/>
              </a:solidFill>
              <a:latin typeface="Rotis Sans Serif for Nokia"/>
            </a:endParaRPr>
          </a:p>
        </p:txBody>
      </p:sp>
      <p:sp>
        <p:nvSpPr>
          <p:cNvPr id="4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During 802.1 Meeting, Tuesday AM:</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too broad. Cannot claim or test conformance</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The scope of the standard must address the full range of upper layer handover strategies in common use.”</a:t>
            </a:r>
            <a:endParaRPr b="0" lang="en-US" sz="12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handover-capable upper layer entities (e.g. Mobile IP sessions)”</a:t>
            </a:r>
            <a:endParaRPr b="0" lang="en-US" sz="12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ullet gives all upper layer entities as options. Pick 1-2.</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e handover from dial up to cell supported? (Limit technologi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hrink scope as much as possible. Most STDs take 3 year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 security, figure out how information is opaque to you</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istinguish between L2 faults that need fixing and those which mean handover tim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ould you include link quality metrics in provided servic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Limit scope, put more details in Objectiv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readth of purpose too long</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802.16 comments received during meeting with 802.16, Tuesday AM</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uplication of work with IETF?</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request to socialize </a:t>
            </a:r>
            <a:endParaRPr b="0" lang="en-US" sz="2400" spc="-1" strike="noStrike">
              <a:solidFill>
                <a:srgbClr val="000000"/>
              </a:solidFill>
              <a:latin typeface="Rotis Sans Serif for Nokia"/>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7000"/>
          </a:bodyPr>
          <a:p>
            <a:pPr marL="272520"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Formal 802.16 comments received Tuesday ~3.00pm</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2000" spc="-1" strike="noStrike">
              <a:solidFill>
                <a:srgbClr val="000000"/>
              </a:solidFill>
              <a:latin typeface="Rotis Sans Serif for Nokia"/>
            </a:endParaRPr>
          </a:p>
          <a:p>
            <a:pPr marL="2725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1</a:t>
            </a:r>
            <a:endParaRPr b="1" lang="en-US" sz="3600" spc="-1" strike="noStrike">
              <a:solidFill>
                <a:srgbClr val="000000"/>
              </a:solidFill>
              <a:latin typeface="Rotis Sans Serif for Nokia"/>
            </a:endParaRPr>
          </a:p>
        </p:txBody>
      </p:sp>
      <p:sp>
        <p:nvSpPr>
          <p:cNvPr id="48" name="PlaceHolder 2"/>
          <p:cNvSpPr>
            <a:spLocks noGrp="1"/>
          </p:cNvSpPr>
          <p:nvPr>
            <p:ph/>
          </p:nvPr>
        </p:nvSpPr>
        <p:spPr>
          <a:xfrm>
            <a:off x="422280" y="609120"/>
            <a:ext cx="8299440" cy="571500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Size</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Norm Finn, Mick Seaman, Howard Frazier</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802.16</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ponse</a:t>
            </a:r>
            <a:endParaRPr b="0" lang="en-US" sz="2000" spc="-1" strike="noStrike">
              <a:solidFill>
                <a:srgbClr val="000000"/>
              </a:solidFill>
              <a:latin typeface="Rotis Sans Serif for Nokia"/>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	</a:t>
            </a:r>
            <a:r>
              <a:rPr b="0" lang="en-US" sz="1600" spc="-1" strike="noStrike">
                <a:solidFill>
                  <a:srgbClr val="000000"/>
                </a:solidFill>
                <a:latin typeface="Rotis Sans Serif for Nokia"/>
              </a:rPr>
              <a:t>Accept.</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olution</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duce scope to:</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Rotis Sans Serif for Nokia"/>
              </a:rPr>
              <a:t>This standard defines extensible 802 media access independent mechanisms that enable the optimization of 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dd to five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This standards shall facilitate optimization of Mobile IP handovers, however this does not preclude the standard from being used to optimize handovers of other layer 3 protocols.</a:t>
            </a:r>
            <a:endParaRPr b="0" lang="en-US" sz="12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In order to facilitate optimized layer 3 handover, this standard shall also specify a means to detect and select network attachment points or optimize the detection and selection of network attachment points.</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compatibility with the 802 architectural model including at least 802, 802.2, 802.1D, 802.1f, 802.1Q, and 802.1X.</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that compatibility is maintained with 802 security mechanisms and that existing security is not compromised.</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Neither security algorithms nor security protocols shall be defined in the specification. This does not preclude the propagation of authentication or authorization information to support network detection and selection.</a:t>
            </a:r>
            <a:r>
              <a:rPr b="0" lang="en-US" sz="1800" spc="-1" strike="noStrike">
                <a:solidFill>
                  <a:srgbClr val="000000"/>
                </a:solidFill>
                <a:latin typeface="Rotis Sans Serif for Nokia"/>
              </a:rPr>
              <a:t> </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2</a:t>
            </a:r>
            <a:endParaRPr b="1" lang="en-US" sz="3600" spc="-1" strike="noStrike">
              <a:solidFill>
                <a:srgbClr val="000000"/>
              </a:solidFill>
              <a:latin typeface="Rotis Sans Serif for Nokia"/>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6000"/>
          </a:bodyPr>
          <a:p>
            <a:pPr marL="26964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 Cannot claim or test conformanc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handover-capable upper layer entities (e.g. Mobile IP sessions)”</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hrink scope as much as possible. Most STDs take 3 year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imit scope, put more details in Objective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ullet gives all upper layer entities as options. Pick 1-2.</a:t>
            </a:r>
            <a:endParaRPr b="0" lang="en-US" sz="2400" spc="-1" strike="noStrike">
              <a:solidFill>
                <a:srgbClr val="000000"/>
              </a:solidFill>
              <a:latin typeface="Rotis Sans Serif for Nokia"/>
            </a:endParaRPr>
          </a:p>
          <a:p>
            <a:pPr lvl="1" marL="639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696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Delete</a:t>
            </a:r>
            <a:r>
              <a:rPr b="0" lang="en-US" sz="2400" spc="-1" strike="noStrike">
                <a:solidFill>
                  <a:srgbClr val="000000"/>
                </a:solidFill>
                <a:latin typeface="Rotis Sans Serif for Nokia"/>
              </a:rPr>
              <a:t> </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 Mobile IP explicitly called out as the upper layer entity</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3</a:t>
            </a:r>
            <a:endParaRPr b="1" lang="en-US" sz="3600" spc="-1" strike="noStrike">
              <a:solidFill>
                <a:srgbClr val="000000"/>
              </a:solidFill>
              <a:latin typeface="Rotis Sans Serif for Nokia"/>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Handover Between Non 802 systems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re handover from dial up to cell supported? (Limit technologies)?</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that is between non 802 systems and out of scope.</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a:t>
            </a:r>
            <a:r>
              <a:rPr b="0" lang="en-US" sz="2400" spc="-1" strike="noStrike">
                <a:solidFill>
                  <a:srgbClr val="000000"/>
                </a:solidFill>
                <a:latin typeface="Rotis Sans Serif for Nokia"/>
              </a:rPr>
              <a:t> “</a:t>
            </a:r>
            <a:r>
              <a:rPr b="0" i="1" lang="en-US" sz="1600" spc="-1" strike="noStrike">
                <a:solidFill>
                  <a:srgbClr val="000000"/>
                </a:solidFill>
                <a:latin typeface="Rotis Sans Serif for Nokia"/>
              </a:rPr>
              <a:t>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Thus scope changes to imply only 802-802 and 802-non 802, excluding non802-non802</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4</a:t>
            </a:r>
            <a:endParaRPr b="1" lang="en-US" sz="3600" spc="-1" strike="noStrike">
              <a:solidFill>
                <a:srgbClr val="000000"/>
              </a:solidFill>
              <a:latin typeface="Rotis Sans Serif for Nokia"/>
            </a:endParaRPr>
          </a:p>
        </p:txBody>
      </p:sp>
      <p:sp>
        <p:nvSpPr>
          <p:cNvPr id="5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urity</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On security, figure out how information is opaque to you</a:t>
            </a:r>
            <a:endParaRPr b="0" lang="en-US" sz="2400" spc="-1" strike="noStrike">
              <a:solidFill>
                <a:srgbClr val="000000"/>
              </a:solidFill>
              <a:latin typeface="Rotis Sans Serif for Nokia"/>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f information provided by an external source is encapsulated then it is opaque to us and would be transported without interpretation by anything defined in this standard.</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t all security information is necessarily opaque to us since this standard may define the semantics of security related information that is being propagat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change</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5</a:t>
            </a:r>
            <a:endParaRPr b="1" lang="en-US" sz="3600" spc="-1" strike="noStrike">
              <a:solidFill>
                <a:srgbClr val="000000"/>
              </a:solidFill>
              <a:latin typeface="Rotis Sans Serif for Nokia"/>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sleading Titl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	</a:t>
            </a: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hange “Media Independent Handover” to “Media Independent Handover Services”.</a:t>
            </a:r>
            <a:endParaRPr b="0" lang="en-US" sz="20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20:46:04Z</dcterms:created>
  <dc:creator>michaewi</dc:creator>
  <dc:description>Nokia Standard Presentation Template - LTR
v. 4 2000/01/05 Eric Beasley
Fixed RGB values for Nokia logo
NO Security Label</dc:description>
  <dc:language>en-US</dc:language>
  <cp:lastModifiedBy>David Johnston</cp:lastModifiedBy>
  <cp:lastPrinted>1999-04-27T06:51:51Z</cp:lastPrinted>
  <dcterms:modified xsi:type="dcterms:W3CDTF">2003-11-12T21:15:09Z</dcterms:modified>
  <cp:revision>12</cp:revision>
  <dc:subject/>
  <dc:title>PAR Comments Discussion</dc:title>
</cp:coreProperties>
</file>