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A85-DCBD-4F91-893B-F0FD5E8D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1054-131E-427A-85ED-F5D4325C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A1C1-9F46-4809-81FA-14A216D2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E46-B4C3-4947-92DC-3C47C6C7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CDF-00E4-460F-8D58-EBB6BF78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591D-F228-49E0-9F4A-195F1E1B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F000-2822-4681-B79E-1DDB20A8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8ADF-3760-4046-88DA-86E21F53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A29-CC7D-4293-A17E-C297CB71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356F-4851-4E2D-97C8-CCA9FB7B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216-0BA5-4B07-BAAD-75E4352F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2DEA-1474-4817-80E6-607CC29C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5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81F05F0-4722-442F-949F-3F1887DD2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88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Ch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a Coexistence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“Coexiste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of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er of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490-CD6B-4D3E-93CF-C149A4C4856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raffi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e data traffic flow based upon different application scenarios for both the WLAN and WPAN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ehouse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&amp;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6CF8-6504-4973-8E12-E431E3D8B6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Layer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e WLAN and WPAN MAC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that with the Data Traffic models to determine when each of the networks are transmitt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2138-8580-47FF-814B-0629560E9D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 Propag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RF signal power levels at the different WPAN and WLAN nodes based on an RF propagation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different application scenarios and physical distribution of de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D98F-AC16-4137-98DF-4C8553524B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ogether the four parts of the model to predict the impact on the WPAN and WLAN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08EB-1B12-4D6E-9B73-E57A571723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existence Model will likely require work in all of the following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likely need to cross check using these different tools to verify the accuracy of the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42DF-9C96-44F3-8ABB-2C082ABFAF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previously performed re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Teams to work the different areas of the Coexistence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out what is the best approach to model the four areas of th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out what is the best method to synthesize the four areas of th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network performance metrics we plan to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2144-B7A7-47AD-BAD7-E48AE79D4F9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ordination with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rticular we need to find a way to have some members of 802.11 participate in the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EC4C-2A99-4F93-95AD-39AF5B15AB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ed for Coexistence Task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hat IEEE 802.15 WPAN devices coexist with other wireless devices in the unlicensed frequency b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rticular it is very important that 802.15 WPAN devices coexist with IEEE 802.11 WLAN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27C3-6C01-480C-B5A2-D417179FC82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 of Coex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wireless devices are said to “coexist” if they can be collocated without significantly impacting the performance of any of these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9628-C541-4B83-9662-A247ABAB3E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EEE currently defines three levels of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ly exchanging two interoperable devices causes no damage to th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our definition of co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le devices can exchang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allow but not require interoperability as a coexistence mech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C471-F939-47F5-8E68-BF33DD9DD4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pe of Coexistence Task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al will be to address coexistenc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802.15 WPAN with any 802.11 W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802.15 WPAN with any other 802.15 WPAN (assuming there will be more than 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802.15 WPAN with selected other devices in the same band (e.g. HomeR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D33A-B0F9-4BA5-8A7A-0F397FC9A6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Ch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 Recommended Practices to for 802.15 and 802.11 to facilitate co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y suggest modifications to the 802.15 and 802.11 standards to enhance co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F76B-5A3C-4DB6-8C58-6D0985F5C0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is mod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under what circumstance there is a coexistence problem and under what circumstances there is not a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velop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porting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justify the recommended suggested practices and possible standards mod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802-259E-4A4B-9E51-74373E5390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2613000">
            <a:off x="3428640" y="2868480"/>
            <a:ext cx="2133720" cy="213372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1840" y="19540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 Lay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5640" y="370692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Lay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080" y="365760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raff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545940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 Propaga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040" y="373392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F43-3498-493C-A861-9F3D7F6CE15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of the 802.11 and 802.15 PHY layers which will predict the impact of mutual interference when multiple devices are operating simultaneously, based upon given signal power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4F9A-364D-4C85-84FA-E31B3D0403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5:27:50Z</dcterms:created>
  <dc:creator>Steve Shellhammer</dc:creator>
  <dc:description>99/xxxr0</dc:description>
  <dc:language>en-US</dc:language>
  <cp:lastModifiedBy>Steve Shellhammer</cp:lastModifiedBy>
  <cp:lastPrinted>1998-02-10T13:28:06Z</cp:lastPrinted>
  <dcterms:modified xsi:type="dcterms:W3CDTF">1999-09-15T15:57:02Z</dcterms:modified>
  <cp:revision>45</cp:revision>
  <dc:subject>IEEE 802.15 Coexistence Charter</dc:subject>
  <dc:title>No Slide Title</dc:title>
</cp:coreProperties>
</file>