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785-8317-4766-918B-32ACBA60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553-D350-40E7-AFBA-D15B683C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9B5-B970-4374-AE95-BA667C74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BC6-B2A8-40B2-A095-5EBC0AD6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FC9-3EA5-4051-8738-62A576B3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5D6-0830-4417-BD97-5CFEE6FC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FC8-9A68-4C17-B57B-CA939B56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A38-2B20-4775-9C9A-337770AC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CDB-B489-4DA4-9E5B-233D1EE3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0FC-D7E4-469D-84F4-DDE0A5ED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225-0571-4D1C-9BF2-8815160A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ECE-B6F0-4667-87C0-A84ED741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5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6AF8A30-8121-4595-976E-7C0FFC4C1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8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a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“Coexist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of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er of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28B-1EEA-4385-843D-D93E7CEDD4D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ff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data traffic flow based upon different application scenarios for both the WLAN and WPA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ehouse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&amp;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DB9-D0A4-40B7-AEA0-C66537FA4C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Layer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WLAN and WPAN MA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that with the Data Traffic models to determine when each of the networks are transmitt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5DB-1271-4893-A637-FC58072357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 Propag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RF signal power levels at the different WPAN and WLAN nodes based on an RF propagation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different application scenarios and physical distribution of de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9E3-1DAD-4C8B-9EA2-D872576051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ogether the four parts of the model to predict the impact on the WPAN and WLAN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02A-4928-42FC-8135-A18719D5C2A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xistence Model will likely require work in all of the following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ikely need to cross check using these different tools to verify the accuracy of the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62B-DBEE-4729-9A58-E53739612C4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reviously performed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eams to work the different areas of the Coexistence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ut what is the best approach to model the four areas of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ut what is the best method to synthesize the four areas of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network performance metrics we plan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33C-FB1F-4707-9E83-5AAE36BE07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ordination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we need to find a way to have some members of 802.11 participate in the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9DB-6AFB-4232-A3D5-B42AC2FF299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ed for Coexistenc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hat IEEE 802.15 WPAN devices coexist with other wireless devices in the unlicensed frequency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it is very important that 802.15 WPAN devices coexist with IEEE 802.11 WLAN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042E-0A6C-495C-A269-27007B5486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wireless devices are said to “coexist” if they can be collocated without significantly impacting the performance of any of these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75C-17FA-4116-8203-37F39C2086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EE currently defines three levels of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ly exchanging two interoperable devices causes no damage to th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our definition of co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le devices can exchang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llow but not require interoperability as a coexistence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724-F2A5-4601-9DC4-231547F141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pe of Coexistenc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will be to address coexistenc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any 802.11 W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any other 802.15 WPAN (assuming there will be more than 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selected other devices in the same band (e.g. HomeR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F17-2F7D-438E-A8C7-3B11CDC93C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Recommended Practices to for 802.15 and 802.11 to facilitat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suggest modifications to the 802.15 and 802.11 standards to enhanc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F53A-34F6-4221-BB66-A951992E06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is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under what circumstance there is a coexistence problem and under what circumstances there is not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rting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justify the recommended suggested practices and possible standards mod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1EF-345C-49B3-9F25-C55B245982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613000">
            <a:off x="3428640" y="2868480"/>
            <a:ext cx="2133720" cy="213372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1840" y="19540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5640" y="370692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080" y="365760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ff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545940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 Propag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040" y="373392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AD30-C3B2-420C-8E98-CD6344B0F3D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of the 802.11 and 802.15 PHY layers which will predict the impact of mutual interference when multiple devices are operating simultaneously, based upon given signal power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179-5CD3-41F1-ABEA-164573AB8C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5:27:50Z</dcterms:created>
  <dc:creator>Steve Shellhammer</dc:creator>
  <dc:description>99/xxxr0</dc:description>
  <dc:language>en-US</dc:language>
  <cp:lastModifiedBy>Steve Shellhammer</cp:lastModifiedBy>
  <cp:lastPrinted>1998-02-10T13:28:06Z</cp:lastPrinted>
  <dcterms:modified xsi:type="dcterms:W3CDTF">1999-09-15T15:57:02Z</dcterms:modified>
  <cp:revision>45</cp:revision>
  <dc:subject>IEEE 802.15 Coexistence Charter</dc:subject>
  <dc:title>No Slide Title</dc:title>
</cp:coreProperties>
</file>